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722D-0E3B-4E4D-87B8-A3FD6BF354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816D-38EF-4B05-99A7-476E0FDF1AB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B4C8-157D-4395-A6D4-1DF823EBA20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8BE8-6690-421A-9D83-869F7AB9FAD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8ACE-2CE8-4831-9923-6BE55F445D3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1590-902E-4397-B9A1-D4A0291FBFF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08EC-9840-4583-8C59-32D19A19AB1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3D7E-0EB9-4B0A-BC56-23252245859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F50A-3B5F-4D03-A6B0-E602D2C37F7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686A-F851-41F4-B0D6-9F6C141B06A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68F8-638C-4DCD-8CFB-5D445DD4FE9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B69F-0159-4FD7-8217-A79CBCECFDF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9C10-2A60-4B79-865C-3559EF643A7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32BE-15F6-405B-81A5-4C0390DDA35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3E4E-FFAD-46F3-B0F7-2BFD286CF5E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343D-64ED-438F-BE2A-77E584580A0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39B6-D31D-405B-9918-2C3D365039D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DD6D-4F00-466A-ADC6-D4614CA34C8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65CE-5F31-4AA7-86B6-9E9B4E39729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CF49-253E-49A3-9132-EA28F8E98BF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7FF9-45C5-4EC3-9E3E-B808815169C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EE1F-8434-4166-B04A-D8F735B880C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699C-E125-44F8-BA7F-EECE3CF0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218B-C4EB-4A1D-B661-A2C6E570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9E2B-AE3C-4D16-93F2-E6658226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2E12-D869-4A4F-9CB8-0AB5E92D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D516-03F7-4F9A-933B-8EA8F088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83C7-5AE2-473C-A5B1-ABFFFF67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098-8055-4F83-960A-230BD572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7DE7-6A4D-4D02-BE9F-7493554F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C15A-FC94-4E6F-97C5-3FB784F2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E895-F587-417B-92E5-161DF29A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4B03-E8EA-42E8-9988-896360F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1EBB-84A3-4ABD-996C-69CCB45C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4BC1-C617-4D41-B77C-4FF1A258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C7C7-D496-423F-A3B4-DF22968F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8361-622F-4706-82D2-CEDF1936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72DF-D7B9-4F6C-B4AE-248A23E3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1AF2-822E-4D81-B34B-F4687BA5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5EFE-5D03-41DD-A6EF-A407F6AE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683A-270A-4A5C-B721-CAD794E1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3B17-95CC-4FCB-AC7F-8D28A14E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4920-AB8D-4386-B19A-3EB451F2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510F-4EF3-45B8-A4F9-C5BAF6C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ABAF-5F8A-403A-ACE2-60D4FE19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C023-9449-4AF1-AEBE-47046FF1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FAD3-1CAF-402C-B715-BDAE9A6174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89FF-96E8-47EF-8DE4-B29845F81D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rançais 3 – Unité 1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lo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ire – Les pièces de la ma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à, c</a:t>
            </a:r>
            <a:r>
              <a:rPr b="0" i="1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st…/Ça, c</a:t>
            </a:r>
            <a:r>
              <a:rPr b="0" i="1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cc"/>
                </a:solidFill>
                <a:latin typeface="Tahoma"/>
              </a:rPr>
              <a:t>Changez de rôle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5" descr="61582a53-dd08-47ec-8aad-133ee2768c59_player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165" name="Rounded Rectangular Callout 3"/>
          <p:cNvSpPr/>
          <p:nvPr/>
        </p:nvSpPr>
        <p:spPr>
          <a:xfrm>
            <a:off x="5486400" y="152280"/>
            <a:ext cx="3352680" cy="2362320"/>
          </a:xfrm>
          <a:prstGeom prst="wedgeRoundRectCallout">
            <a:avLst>
              <a:gd name="adj1" fmla="val 60791"/>
              <a:gd name="adj2" fmla="val 8681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ounded Rectangular Callout 4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8638"/>
              <a:gd name="adj2" fmla="val 8745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ontent Placeholder 2" descr=""/>
          <p:cNvPicPr/>
          <p:nvPr/>
        </p:nvPicPr>
        <p:blipFill>
          <a:blip r:embed="rId1"/>
          <a:srcRect l="0" t="13297" r="0" b="13297"/>
          <a:stretch/>
        </p:blipFill>
        <p:spPr>
          <a:xfrm>
            <a:off x="457200" y="217476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6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Rounded Rectangular Callout 3"/>
          <p:cNvSpPr/>
          <p:nvPr/>
        </p:nvSpPr>
        <p:spPr>
          <a:xfrm>
            <a:off x="5486400" y="152280"/>
            <a:ext cx="3352680" cy="2362320"/>
          </a:xfrm>
          <a:prstGeom prst="wedgeRoundRectCallout">
            <a:avLst>
              <a:gd name="adj1" fmla="val 60791"/>
              <a:gd name="adj2" fmla="val 8681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ounded Rectangular Callout 4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8638"/>
              <a:gd name="adj2" fmla="val 8745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7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Picture 8" descr="1055c"/>
          <p:cNvPicPr/>
          <p:nvPr/>
        </p:nvPicPr>
        <p:blipFill>
          <a:blip r:embed="rId1"/>
          <a:stretch/>
        </p:blipFill>
        <p:spPr>
          <a:xfrm>
            <a:off x="533520" y="83808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173" name="Rounded Rectangular Callout 3"/>
          <p:cNvSpPr/>
          <p:nvPr/>
        </p:nvSpPr>
        <p:spPr>
          <a:xfrm>
            <a:off x="5486400" y="152280"/>
            <a:ext cx="3352680" cy="2362320"/>
          </a:xfrm>
          <a:prstGeom prst="wedgeRoundRectCallout">
            <a:avLst>
              <a:gd name="adj1" fmla="val 60791"/>
              <a:gd name="adj2" fmla="val 8681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ounded Rectangular Callout 4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8638"/>
              <a:gd name="adj2" fmla="val 8745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8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Rounded Rectangular Callout 3"/>
          <p:cNvSpPr/>
          <p:nvPr/>
        </p:nvSpPr>
        <p:spPr>
          <a:xfrm>
            <a:off x="5486400" y="152280"/>
            <a:ext cx="3352680" cy="2362320"/>
          </a:xfrm>
          <a:prstGeom prst="wedgeRoundRectCallout">
            <a:avLst>
              <a:gd name="adj1" fmla="val 60791"/>
              <a:gd name="adj2" fmla="val 8681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ounded Rectangular Callout 4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8638"/>
              <a:gd name="adj2" fmla="val 8745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évison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Picture 15" descr="hiro-dining-room-set-inx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60534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1600200" y="7632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salle à mang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6" descr="kitchen-makeovers-00"/>
          <p:cNvPicPr/>
          <p:nvPr/>
        </p:nvPicPr>
        <p:blipFill>
          <a:blip r:embed="rId1"/>
          <a:stretch/>
        </p:blipFill>
        <p:spPr>
          <a:xfrm>
            <a:off x="1981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5"/>
          <p:cNvSpPr/>
          <p:nvPr/>
        </p:nvSpPr>
        <p:spPr>
          <a:xfrm>
            <a:off x="1600200" y="43488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cuis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7" name="Picture 4" descr="MPj03996850000[1]"/>
          <p:cNvPicPr/>
          <p:nvPr/>
        </p:nvPicPr>
        <p:blipFill>
          <a:blip r:embed="rId1"/>
          <a:stretch/>
        </p:blipFill>
        <p:spPr>
          <a:xfrm>
            <a:off x="167652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1371600" y="13032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salle de bai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4" descr="MPj03996920000[1]"/>
          <p:cNvPicPr/>
          <p:nvPr/>
        </p:nvPicPr>
        <p:blipFill>
          <a:blip r:embed="rId1"/>
          <a:stretch/>
        </p:blipFill>
        <p:spPr>
          <a:xfrm>
            <a:off x="182880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1600200" y="76320"/>
            <a:ext cx="6400800" cy="131292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chambre de mes par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cc"/>
                </a:solidFill>
                <a:latin typeface="Tahoma"/>
              </a:rPr>
              <a:t>Contexte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Votre père a un invité un collègue français, M. Durand à dîner avec votre fami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M. Durand est arrivé chez vous et votre père vous demande de montrer la maison à M. Durand parce que vous parlez frança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5" descr="61582a53-dd08-47ec-8aad-133ee2768c59_player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1600200" y="7632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chambre de ma soeu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ontent Placeholder 2" descr=""/>
          <p:cNvPicPr/>
          <p:nvPr/>
        </p:nvPicPr>
        <p:blipFill>
          <a:blip r:embed="rId1"/>
          <a:srcRect l="0" t="13297" r="0" b="13297"/>
          <a:stretch/>
        </p:blipFill>
        <p:spPr>
          <a:xfrm>
            <a:off x="457200" y="217476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6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1447920" y="35892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e sous-s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7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9" name="Picture 8" descr="1055c"/>
          <p:cNvPicPr/>
          <p:nvPr/>
        </p:nvPicPr>
        <p:blipFill>
          <a:blip r:embed="rId1"/>
          <a:stretch/>
        </p:blipFill>
        <p:spPr>
          <a:xfrm>
            <a:off x="533520" y="83808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1600200" y="7632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salle de séjou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8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1447920" y="22860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e greni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cc"/>
                </a:solidFill>
                <a:latin typeface="Tahoma"/>
              </a:rPr>
              <a:t>Tâche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Jouer les rôl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) l’hô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résenter les pièces de « votre » mai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Dire un ou deux objets que l’on y trou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b) l’invité M. Dur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ommenter la piè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cc"/>
                </a:solidFill>
                <a:latin typeface="Tahoma"/>
              </a:rPr>
              <a:t>Éléments Requis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s express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Ça, c’e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Il y a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C’est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+ adject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odè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Content Placeholder 3" descr=""/>
          <p:cNvPicPr/>
          <p:nvPr/>
        </p:nvPicPr>
        <p:blipFill>
          <a:blip r:embed="rId1"/>
          <a:srcRect l="0" t="9481" r="0" b="9481"/>
          <a:stretch/>
        </p:blipFill>
        <p:spPr>
          <a:xfrm>
            <a:off x="0" y="1100160"/>
            <a:ext cx="9158400" cy="492264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ular Callout 1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0518"/>
              <a:gd name="adj2" fmla="val 7593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le salon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un sofa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une chais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5638680" y="228600"/>
            <a:ext cx="3353040" cy="2362320"/>
          </a:xfrm>
          <a:prstGeom prst="wedgeRoundRectCallout">
            <a:avLst>
              <a:gd name="adj1" fmla="val 64402"/>
              <a:gd name="adj2" fmla="val 8042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très class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15" descr="hiro-dining-room-set-inx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6053400"/>
          </a:xfrm>
          <a:prstGeom prst="rect">
            <a:avLst/>
          </a:prstGeom>
          <a:ln w="0">
            <a:noFill/>
          </a:ln>
        </p:spPr>
      </p:pic>
      <p:sp>
        <p:nvSpPr>
          <p:cNvPr id="147" name="Rounded Rectangular Callout 3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0518"/>
              <a:gd name="adj2" fmla="val 7593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ounded Rectangular Callout 4"/>
          <p:cNvSpPr/>
          <p:nvPr/>
        </p:nvSpPr>
        <p:spPr>
          <a:xfrm>
            <a:off x="5638680" y="228600"/>
            <a:ext cx="3353040" cy="2362320"/>
          </a:xfrm>
          <a:prstGeom prst="wedgeRoundRectCallout">
            <a:avLst>
              <a:gd name="adj1" fmla="val 64402"/>
              <a:gd name="adj2" fmla="val 8042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6" descr="kitchen-makeovers-00"/>
          <p:cNvPicPr/>
          <p:nvPr/>
        </p:nvPicPr>
        <p:blipFill>
          <a:blip r:embed="rId1"/>
          <a:stretch/>
        </p:blipFill>
        <p:spPr>
          <a:xfrm>
            <a:off x="1981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ular Callout 3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0518"/>
              <a:gd name="adj2" fmla="val 7593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ounded Rectangular Callout 4"/>
          <p:cNvSpPr/>
          <p:nvPr/>
        </p:nvSpPr>
        <p:spPr>
          <a:xfrm>
            <a:off x="5638680" y="228600"/>
            <a:ext cx="3353040" cy="2362320"/>
          </a:xfrm>
          <a:prstGeom prst="wedgeRoundRectCallout">
            <a:avLst>
              <a:gd name="adj1" fmla="val 64402"/>
              <a:gd name="adj2" fmla="val 8042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MPj03996850000[1]"/>
          <p:cNvPicPr/>
          <p:nvPr/>
        </p:nvPicPr>
        <p:blipFill>
          <a:blip r:embed="rId1"/>
          <a:stretch/>
        </p:blipFill>
        <p:spPr>
          <a:xfrm>
            <a:off x="167652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Rounded Rectangular Callout 3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0518"/>
              <a:gd name="adj2" fmla="val 7593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ounded Rectangular Callout 4"/>
          <p:cNvSpPr/>
          <p:nvPr/>
        </p:nvSpPr>
        <p:spPr>
          <a:xfrm>
            <a:off x="5638680" y="228600"/>
            <a:ext cx="3353040" cy="2362320"/>
          </a:xfrm>
          <a:prstGeom prst="wedgeRoundRectCallout">
            <a:avLst>
              <a:gd name="adj1" fmla="val 64402"/>
              <a:gd name="adj2" fmla="val 8042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Picture 4" descr="MPj03996920000[1]"/>
          <p:cNvPicPr/>
          <p:nvPr/>
        </p:nvPicPr>
        <p:blipFill>
          <a:blip r:embed="rId1"/>
          <a:stretch/>
        </p:blipFill>
        <p:spPr>
          <a:xfrm>
            <a:off x="182880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Rounded Rectangular Callout 3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0518"/>
              <a:gd name="adj2" fmla="val 7593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ounded Rectangular Callout 4"/>
          <p:cNvSpPr/>
          <p:nvPr/>
        </p:nvSpPr>
        <p:spPr>
          <a:xfrm>
            <a:off x="5638680" y="228600"/>
            <a:ext cx="3353040" cy="2362320"/>
          </a:xfrm>
          <a:prstGeom prst="wedgeRoundRectCallout">
            <a:avLst>
              <a:gd name="adj1" fmla="val 64402"/>
              <a:gd name="adj2" fmla="val 8042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10-16T13:38:55Z</dcterms:modified>
  <cp:revision>88</cp:revision>
  <dc:subject/>
  <dc:title>Allez, viens! – Level 2</dc:title>
</cp:coreProperties>
</file>